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jpeg" ContentType="image/jpeg"/>
  <Override PartName="/ppt/media/image4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47.png" ContentType="image/pn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94E9-4597-4E92-BAD3-B87F429A4B9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ska du få lära dig lite mer om hur man ska tänka när man arbetar med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9AF2-04E4-4C03-950A-69C3F939BA0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tt forska är att ta reda på någonting ny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ågonting som du inte redan vis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B32B-7FB1-4422-9F44-E8679C0AFDB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nnan du börjar leta fakta, fundera över vad du redan vet om äm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m alla i klassen ska arbeta med samma ämne kan det vara bra att brainstorma i klass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Gör en tankekarta där du skriver ner allt du redan vet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AD60-EB39-46D0-B851-110338FAB3F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är det dags att begränsa äm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å kan det vara bra att skriva en frågeställn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ta gör du enklast genom att skriva en mening som uttrycker det du vill veta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Till exem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g vill veta mer om Anastasia Romanov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e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g vill lära mig mer om musikstilen samb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går också bra att ställa en fråga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Till exem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ar vikingarna så vilda som ryktet säger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D09F-9DB3-46F2-A0BE-FB00D3B8E5A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vänd så många medier som möjligt när du söker efter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inns det någon film om ämnet. Filmer är jättebra att börja med för att skaffa sig lite förförstå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ppslagsverk, både på Internet och i böcker är bra ställen att fortsätt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finns kanske faktaböcker och Internetsidor där du kan le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u kan fråga någon som vet mer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rova också att leta efter fakta i tid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kan lite mer kan du se om du hittar någon berättelse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9FA7-BE48-4875-8ADE-7B08F6BEF43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vänd så många medier som möjligt när du söker efter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inns det någon film om ämnet. Filmer är jättebra att börja med för att skaffa sig lite förförstå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ppslagsverk, både på Internet och i böcker är bra ställen att fortsätt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finns kanske faktaböcker och Internetsidor där du kan le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u kan fråga någon som vet mer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rova också att leta efter fakta i tid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kan lite mer kan du se om du hittar någon berättelse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DDD8-0524-48A3-A425-AE0CF282FC6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är det dags att samla ihop all fakta du har hitt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teckna noga och gör en ny tankekarta kring din frågeställning eller fyll på den gam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kriv dit all fakta som du tycker är viktig att ha med i ditt arbe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A1CE-B45A-423B-9080-B4CE35E12B7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ska redovisa ditt arbete finns det några saker att tänk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kriv med egna ord. Det är nu du har nytta av din tankekarta. Om du använder den blir du inte frestad att kop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m du använder bilder i din redovisning – tänk på upphovsrätten. Det är inte fritt fram att använda vilka bilder som h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ala om var du har hämtat informationen. Det kallas för källhänvis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änk på att göra ett snyggt arbete som alla kan lä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E746-E74B-4DE4-B67A-EC6369A6535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ch så lite hjälp på vä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Lycka til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968A-2E89-4226-88DD-3B510CE12D2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3C0-9376-4EFB-928C-CADBB1A4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810-F1B7-4B16-9B76-CED62F91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B82-BDDD-4BC4-8CD5-DAA1DE15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527-64F1-4998-8895-A16AE1A9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C096-EEB9-43AB-95EE-71ACC3A6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BB49-3865-4E1B-8502-07D9AA98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2B15-835A-4E7D-926A-0DA18D7A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EFCF-9ED2-4632-899A-BFC52F2C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B3AB-2999-4985-9E7E-C3964018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FF5D-72CB-4227-9B04-075FC067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9AD3-7614-4BDA-83EC-3B5351F7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A26-40DC-49CE-8FD6-BF2EE124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8CEB-8F02-41D2-8308-EE3F6415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FDE6-7ECA-461E-84E6-7F2AA4A6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38A2-9691-4E7F-9BF0-76DD76EC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D395-D325-4F0F-87CC-2CE7B210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ED54-7961-48C7-8337-A58D17F7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2976-41C1-4A9D-A2F9-98A21141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F87C2-0D24-4B8F-A23A-FF0EF2D5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0C37-FB07-48D3-9AF0-8381CBB1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417A-C353-4297-B2E2-59AD9C7B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7FCD-943F-4D24-B317-4007976A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17D-B47E-4F30-9933-5EBD433B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64E4-C93E-4D95-BB0A-A63004D0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20B7-DC68-4462-BAD9-C36F282C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3697-3518-400F-8FB7-5CC6BAB5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29FBA-8E24-4A93-9545-CDE72871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5C7F-C729-4D4C-A896-AB897EF0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AB42-797B-4064-9B7C-DE084DB1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2BA7-A6D7-4EC6-871B-3F1B37F2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684A-1FED-4A11-B24E-FE9F7743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7443-072D-4E37-9515-0FC70B11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8D77-DFE3-49E7-AFD3-F872FBE0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E38-8373-41DF-9FAF-811B518E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65C7-4CB6-4F39-8C9E-79843BC9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C773-D73E-4A89-B89D-2CDF3520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1344E-B5CD-4FD6-9E21-27DA9FB7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6416-3E5B-45EB-A84B-41074A30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989F9-0D42-4D9E-8991-A5062233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E1188-7908-4487-85DC-6E8FB904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11AF-DDC6-4F79-9962-6A0E8F8C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0754-9291-4750-9C5F-2A52E1E0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E0D9-DA7E-4C18-9F8B-45CF2048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136-24D2-4F22-BA2C-C8BDAF39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9EB-9F19-417C-AAE0-E7B8676F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5B9-ED40-419A-806A-594B0982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107-C463-4C73-89EF-2EFF6EB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907-0BC2-4493-AF0E-9B16E6BF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15DC-B17E-4D0C-B7BE-48931E360293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AE9F-42DB-4AC3-A99D-64BE50A46E88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9346-BEEB-4144-8BC5-6FDEDC2D0C8E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8986-1BDA-4C3D-9F6D-CD283B85ED4D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jpeg"/><Relationship Id="rId13" Type="http://schemas.openxmlformats.org/officeDocument/2006/relationships/hyperlink" Target="http://www.geograph.org.uk/profile/5995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5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C:\Users\rebecca.borg\AppData\Local\Microsoft\Windows\Temporary Internet Files\Content.IE5\SM42SJB5\MP900402623[1].jpg"/>
          <p:cNvPicPr/>
          <p:nvPr/>
        </p:nvPicPr>
        <p:blipFill>
          <a:blip r:embed="rId1"/>
          <a:stretch/>
        </p:blipFill>
        <p:spPr>
          <a:xfrm>
            <a:off x="914400" y="1843200"/>
            <a:ext cx="3446640" cy="4484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2" name="Picture 11" descr="C:\Users\rebecca.borg\AppData\Local\Microsoft\Windows\Temporary Internet Files\Content.IE5\B5K3C9DC\MP900308954[1].jpg"/>
          <p:cNvPicPr/>
          <p:nvPr/>
        </p:nvPicPr>
        <p:blipFill>
          <a:blip r:embed="rId2"/>
          <a:srcRect l="34478" t="0" r="14793" b="0"/>
          <a:stretch/>
        </p:blipFill>
        <p:spPr>
          <a:xfrm>
            <a:off x="4782960" y="1843200"/>
            <a:ext cx="3446640" cy="4484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3" name="Rubrik 1" descr=""/>
          <p:cNvPicPr/>
          <p:nvPr/>
        </p:nvPicPr>
        <p:blipFill>
          <a:blip r:embed="rId3"/>
          <a:stretch/>
        </p:blipFill>
        <p:spPr>
          <a:xfrm>
            <a:off x="0" y="195120"/>
            <a:ext cx="914400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C:\Users\rebecca.borg\AppData\Local\Microsoft\Windows\Temporary Internet Files\Content.IE5\73YNZWFG\MP900400378[1].jpg"/>
          <p:cNvPicPr/>
          <p:nvPr/>
        </p:nvPicPr>
        <p:blipFill>
          <a:blip r:embed="rId1"/>
          <a:stretch/>
        </p:blipFill>
        <p:spPr>
          <a:xfrm>
            <a:off x="1828800" y="2251080"/>
            <a:ext cx="5486400" cy="36561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5" name="Rubrik 1" descr=""/>
          <p:cNvPicPr/>
          <p:nvPr/>
        </p:nvPicPr>
        <p:blipFill>
          <a:blip r:embed="rId2"/>
          <a:stretch/>
        </p:blipFill>
        <p:spPr>
          <a:xfrm>
            <a:off x="0" y="249120"/>
            <a:ext cx="914400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ktangel med rundade hörn 20" descr=""/>
          <p:cNvPicPr/>
          <p:nvPr/>
        </p:nvPicPr>
        <p:blipFill>
          <a:blip r:embed="rId1"/>
          <a:stretch/>
        </p:blipFill>
        <p:spPr>
          <a:xfrm>
            <a:off x="5010120" y="3889440"/>
            <a:ext cx="1940040" cy="1377720"/>
          </a:xfrm>
          <a:prstGeom prst="rect">
            <a:avLst/>
          </a:prstGeom>
          <a:ln w="0">
            <a:noFill/>
          </a:ln>
        </p:spPr>
      </p:pic>
      <p:pic>
        <p:nvPicPr>
          <p:cNvPr id="227" name="Rektangel med rundade hörn 18" descr=""/>
          <p:cNvPicPr/>
          <p:nvPr/>
        </p:nvPicPr>
        <p:blipFill>
          <a:blip r:embed="rId2"/>
          <a:stretch/>
        </p:blipFill>
        <p:spPr>
          <a:xfrm>
            <a:off x="5010120" y="2876400"/>
            <a:ext cx="2927520" cy="1281240"/>
          </a:xfrm>
          <a:prstGeom prst="rect">
            <a:avLst/>
          </a:prstGeom>
          <a:ln w="0">
            <a:noFill/>
          </a:ln>
        </p:spPr>
      </p:pic>
      <p:sp>
        <p:nvSpPr>
          <p:cNvPr id="228" name="textruta 10"/>
          <p:cNvSpPr/>
          <p:nvPr/>
        </p:nvSpPr>
        <p:spPr>
          <a:xfrm>
            <a:off x="5205960" y="2997360"/>
            <a:ext cx="2670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d vet du red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ruta 12"/>
          <p:cNvSpPr/>
          <p:nvPr/>
        </p:nvSpPr>
        <p:spPr>
          <a:xfrm>
            <a:off x="5195520" y="4033800"/>
            <a:ext cx="170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ankek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5" descr="C:\Users\rebecca.borg\AppData\Local\Microsoft\Windows\Temporary Internet Files\Content.IE5\SM42SJB5\MP900433196[1].jpg"/>
          <p:cNvPicPr/>
          <p:nvPr/>
        </p:nvPicPr>
        <p:blipFill>
          <a:blip r:embed="rId3"/>
          <a:stretch/>
        </p:blipFill>
        <p:spPr>
          <a:xfrm>
            <a:off x="1200240" y="2554200"/>
            <a:ext cx="3636720" cy="24242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1" name="Rubrik 1" descr=""/>
          <p:cNvPicPr/>
          <p:nvPr/>
        </p:nvPicPr>
        <p:blipFill>
          <a:blip r:embed="rId4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ktangel med rundade hörn 15" descr=""/>
          <p:cNvPicPr/>
          <p:nvPr/>
        </p:nvPicPr>
        <p:blipFill>
          <a:blip r:embed="rId1"/>
          <a:stretch/>
        </p:blipFill>
        <p:spPr>
          <a:xfrm>
            <a:off x="1268280" y="5572080"/>
            <a:ext cx="6059520" cy="1146240"/>
          </a:xfrm>
          <a:prstGeom prst="rect">
            <a:avLst/>
          </a:prstGeom>
          <a:ln w="0">
            <a:noFill/>
          </a:ln>
        </p:spPr>
      </p:pic>
      <p:pic>
        <p:nvPicPr>
          <p:cNvPr id="233" name="Rubrik 1" descr=""/>
          <p:cNvPicPr/>
          <p:nvPr/>
        </p:nvPicPr>
        <p:blipFill>
          <a:blip r:embed="rId2"/>
          <a:stretch/>
        </p:blipFill>
        <p:spPr>
          <a:xfrm>
            <a:off x="0" y="66600"/>
            <a:ext cx="9144000" cy="15001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0"/>
          <p:cNvSpPr/>
          <p:nvPr/>
        </p:nvSpPr>
        <p:spPr>
          <a:xfrm>
            <a:off x="5288040" y="1930320"/>
            <a:ext cx="281448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Begrän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Skriv frågor om det du vill veta mer 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Be om synpunkter och råd från and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Rektangel med rundade hörn 11" descr=""/>
          <p:cNvPicPr/>
          <p:nvPr/>
        </p:nvPicPr>
        <p:blipFill>
          <a:blip r:embed="rId3"/>
          <a:stretch/>
        </p:blipFill>
        <p:spPr>
          <a:xfrm>
            <a:off x="1268280" y="4029120"/>
            <a:ext cx="6315120" cy="1176120"/>
          </a:xfrm>
          <a:prstGeom prst="rect">
            <a:avLst/>
          </a:prstGeom>
          <a:ln w="0">
            <a:noFill/>
          </a:ln>
        </p:spPr>
      </p:pic>
      <p:pic>
        <p:nvPicPr>
          <p:cNvPr id="236" name="Rektangel med rundade hörn 14" descr=""/>
          <p:cNvPicPr/>
          <p:nvPr/>
        </p:nvPicPr>
        <p:blipFill>
          <a:blip r:embed="rId4"/>
          <a:stretch/>
        </p:blipFill>
        <p:spPr>
          <a:xfrm>
            <a:off x="1255680" y="4809960"/>
            <a:ext cx="4919760" cy="1176480"/>
          </a:xfrm>
          <a:prstGeom prst="rect">
            <a:avLst/>
          </a:prstGeom>
          <a:ln w="0">
            <a:noFill/>
          </a:ln>
        </p:spPr>
      </p:pic>
      <p:sp>
        <p:nvSpPr>
          <p:cNvPr id="237" name="textruta 16"/>
          <p:cNvSpPr/>
          <p:nvPr/>
        </p:nvSpPr>
        <p:spPr>
          <a:xfrm>
            <a:off x="1506240" y="4125960"/>
            <a:ext cx="5907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Hur vet man så mycket om dinosaurier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ruta 17"/>
          <p:cNvSpPr/>
          <p:nvPr/>
        </p:nvSpPr>
        <p:spPr>
          <a:xfrm>
            <a:off x="1443960" y="4906800"/>
            <a:ext cx="4569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för är tigern utrotningshot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ruta 18"/>
          <p:cNvSpPr/>
          <p:nvPr/>
        </p:nvSpPr>
        <p:spPr>
          <a:xfrm>
            <a:off x="1495800" y="5657760"/>
            <a:ext cx="5753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 vikingarna så vilda som ryktet sä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C:\Documents and Settings\Rebecca Borg\Lokala inställningar\Temporary Internet Files\Content.IE5\B7ZOHNRM\MP900422389[1].jpg"/>
          <p:cNvPicPr/>
          <p:nvPr/>
        </p:nvPicPr>
        <p:blipFill>
          <a:blip r:embed="rId5"/>
          <a:srcRect l="0" t="68572" r="0" b="0"/>
          <a:stretch/>
        </p:blipFill>
        <p:spPr>
          <a:xfrm>
            <a:off x="1325520" y="1758960"/>
            <a:ext cx="3826080" cy="17874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ubrik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  <p:pic>
        <p:nvPicPr>
          <p:cNvPr id="242" name="Rektangel med rundade hörn 31" descr=""/>
          <p:cNvPicPr/>
          <p:nvPr/>
        </p:nvPicPr>
        <p:blipFill>
          <a:blip r:embed="rId2"/>
          <a:stretch/>
        </p:blipFill>
        <p:spPr>
          <a:xfrm>
            <a:off x="3389400" y="1962000"/>
            <a:ext cx="12556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243" name="textruta 24"/>
          <p:cNvGrpSpPr/>
          <p:nvPr/>
        </p:nvGrpSpPr>
        <p:grpSpPr>
          <a:xfrm>
            <a:off x="3486240" y="1925640"/>
            <a:ext cx="1104840" cy="798480"/>
            <a:chOff x="3486240" y="1925640"/>
            <a:chExt cx="1104840" cy="798480"/>
          </a:xfrm>
        </p:grpSpPr>
        <p:pic>
          <p:nvPicPr>
            <p:cNvPr id="244" name="textruta 24" descr=""/>
            <p:cNvPicPr/>
            <p:nvPr/>
          </p:nvPicPr>
          <p:blipFill>
            <a:blip r:embed="rId3"/>
            <a:stretch/>
          </p:blipFill>
          <p:spPr>
            <a:xfrm>
              <a:off x="3486240" y="1925640"/>
              <a:ext cx="1104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50760" y="2076480"/>
              <a:ext cx="7552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Fil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Rektangel med rundade hörn 32" descr=""/>
          <p:cNvPicPr/>
          <p:nvPr/>
        </p:nvPicPr>
        <p:blipFill>
          <a:blip r:embed="rId4"/>
          <a:stretch/>
        </p:blipFill>
        <p:spPr>
          <a:xfrm>
            <a:off x="2193840" y="2766960"/>
            <a:ext cx="2481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247" name="textruta 25"/>
          <p:cNvGrpSpPr/>
          <p:nvPr/>
        </p:nvGrpSpPr>
        <p:grpSpPr>
          <a:xfrm>
            <a:off x="2225520" y="2762280"/>
            <a:ext cx="2382840" cy="798480"/>
            <a:chOff x="2225520" y="2762280"/>
            <a:chExt cx="2382840" cy="798480"/>
          </a:xfrm>
        </p:grpSpPr>
        <p:pic>
          <p:nvPicPr>
            <p:cNvPr id="248" name="textruta 25" descr=""/>
            <p:cNvPicPr/>
            <p:nvPr/>
          </p:nvPicPr>
          <p:blipFill>
            <a:blip r:embed="rId5"/>
            <a:stretch/>
          </p:blipFill>
          <p:spPr>
            <a:xfrm>
              <a:off x="2225520" y="2762280"/>
              <a:ext cx="2382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396880" y="2911320"/>
              <a:ext cx="20246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Uppslagsve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Rektangel med rundade hörn 33" descr=""/>
          <p:cNvPicPr/>
          <p:nvPr/>
        </p:nvPicPr>
        <p:blipFill>
          <a:blip r:embed="rId6"/>
          <a:stretch/>
        </p:blipFill>
        <p:spPr>
          <a:xfrm>
            <a:off x="689040" y="3645000"/>
            <a:ext cx="395604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51" name="textruta 26"/>
          <p:cNvGrpSpPr/>
          <p:nvPr/>
        </p:nvGrpSpPr>
        <p:grpSpPr>
          <a:xfrm>
            <a:off x="658800" y="3602160"/>
            <a:ext cx="4065480" cy="830880"/>
            <a:chOff x="658800" y="3602160"/>
            <a:chExt cx="4065480" cy="830880"/>
          </a:xfrm>
        </p:grpSpPr>
        <p:pic>
          <p:nvPicPr>
            <p:cNvPr id="252" name="textruta 26" descr=""/>
            <p:cNvPicPr/>
            <p:nvPr/>
          </p:nvPicPr>
          <p:blipFill>
            <a:blip r:embed="rId7"/>
            <a:stretch/>
          </p:blipFill>
          <p:spPr>
            <a:xfrm>
              <a:off x="658800" y="3602160"/>
              <a:ext cx="4065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16120" y="3754440"/>
              <a:ext cx="36129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Faktaböcker och Internet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Rektangel med rundade hörn 34" descr=""/>
          <p:cNvPicPr/>
          <p:nvPr/>
        </p:nvPicPr>
        <p:blipFill>
          <a:blip r:embed="rId8"/>
          <a:stretch/>
        </p:blipFill>
        <p:spPr>
          <a:xfrm>
            <a:off x="2170080" y="5364000"/>
            <a:ext cx="247500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55" name="textruta 29"/>
          <p:cNvGrpSpPr/>
          <p:nvPr/>
        </p:nvGrpSpPr>
        <p:grpSpPr>
          <a:xfrm>
            <a:off x="2273400" y="5353200"/>
            <a:ext cx="2341440" cy="798480"/>
            <a:chOff x="2273400" y="5353200"/>
            <a:chExt cx="2341440" cy="798480"/>
          </a:xfrm>
        </p:grpSpPr>
        <p:pic>
          <p:nvPicPr>
            <p:cNvPr id="256" name="textruta 29" descr=""/>
            <p:cNvPicPr/>
            <p:nvPr/>
          </p:nvPicPr>
          <p:blipFill>
            <a:blip r:embed="rId9"/>
            <a:stretch/>
          </p:blipFill>
          <p:spPr>
            <a:xfrm>
              <a:off x="2273400" y="5353200"/>
              <a:ext cx="2341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441520" y="5502240"/>
              <a:ext cx="19760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Skönlitterat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Rektangel med rundade hörn 35" descr=""/>
          <p:cNvPicPr/>
          <p:nvPr/>
        </p:nvPicPr>
        <p:blipFill>
          <a:blip r:embed="rId10"/>
          <a:stretch/>
        </p:blipFill>
        <p:spPr>
          <a:xfrm>
            <a:off x="2938320" y="4475160"/>
            <a:ext cx="1706760" cy="1249200"/>
          </a:xfrm>
          <a:prstGeom prst="rect">
            <a:avLst/>
          </a:prstGeom>
          <a:ln w="0">
            <a:noFill/>
          </a:ln>
        </p:spPr>
      </p:pic>
      <p:grpSp>
        <p:nvGrpSpPr>
          <p:cNvPr id="259" name="textruta 27"/>
          <p:cNvGrpSpPr/>
          <p:nvPr/>
        </p:nvGrpSpPr>
        <p:grpSpPr>
          <a:xfrm>
            <a:off x="3060720" y="4438800"/>
            <a:ext cx="1523880" cy="798480"/>
            <a:chOff x="3060720" y="4438800"/>
            <a:chExt cx="1523880" cy="798480"/>
          </a:xfrm>
        </p:grpSpPr>
        <p:pic>
          <p:nvPicPr>
            <p:cNvPr id="260" name="textruta 27" descr=""/>
            <p:cNvPicPr/>
            <p:nvPr/>
          </p:nvPicPr>
          <p:blipFill>
            <a:blip r:embed="rId11"/>
            <a:stretch/>
          </p:blipFill>
          <p:spPr>
            <a:xfrm>
              <a:off x="3060720" y="4438800"/>
              <a:ext cx="15238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224520" y="4589640"/>
              <a:ext cx="1180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Intervj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Bildobjekt 37" descr="1030323_e82b8df6.jpg"/>
          <p:cNvPicPr/>
          <p:nvPr/>
        </p:nvPicPr>
        <p:blipFill>
          <a:blip r:embed="rId12"/>
          <a:srcRect l="10199" t="7875" r="9538" b="3233"/>
          <a:stretch/>
        </p:blipFill>
        <p:spPr>
          <a:xfrm>
            <a:off x="5002200" y="1776240"/>
            <a:ext cx="3013200" cy="44499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3" name="Rektangel 38"/>
          <p:cNvSpPr/>
          <p:nvPr/>
        </p:nvSpPr>
        <p:spPr>
          <a:xfrm>
            <a:off x="5514840" y="6383160"/>
            <a:ext cx="2500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</a:t>
            </a:r>
            <a:r>
              <a:rPr b="0" lang="sv-SE" sz="900" spc="-1" strike="noStrike" u="sng">
                <a:solidFill>
                  <a:srgbClr val="021828"/>
                </a:solidFill>
                <a:uFillTx/>
                <a:latin typeface="Arial"/>
                <a:hlinkClick r:id="rId13"/>
              </a:rPr>
              <a:t>Phil Catter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ktangel med rundade hörn 28" descr=""/>
          <p:cNvPicPr/>
          <p:nvPr/>
        </p:nvPicPr>
        <p:blipFill>
          <a:blip r:embed="rId1"/>
          <a:stretch/>
        </p:blipFill>
        <p:spPr>
          <a:xfrm>
            <a:off x="1390680" y="4718160"/>
            <a:ext cx="3346560" cy="1901880"/>
          </a:xfrm>
          <a:prstGeom prst="rect">
            <a:avLst/>
          </a:prstGeom>
          <a:ln w="0">
            <a:noFill/>
          </a:ln>
        </p:spPr>
      </p:pic>
      <p:pic>
        <p:nvPicPr>
          <p:cNvPr id="265" name="Rektangel med rundade hörn 23" descr=""/>
          <p:cNvPicPr/>
          <p:nvPr/>
        </p:nvPicPr>
        <p:blipFill>
          <a:blip r:embed="rId2"/>
          <a:stretch/>
        </p:blipFill>
        <p:spPr>
          <a:xfrm>
            <a:off x="1390680" y="2286000"/>
            <a:ext cx="3327480" cy="1901880"/>
          </a:xfrm>
          <a:prstGeom prst="rect">
            <a:avLst/>
          </a:prstGeom>
          <a:ln w="0">
            <a:noFill/>
          </a:ln>
        </p:spPr>
      </p:pic>
      <p:pic>
        <p:nvPicPr>
          <p:cNvPr id="266" name="Rubrik 1" descr=""/>
          <p:cNvPicPr/>
          <p:nvPr/>
        </p:nvPicPr>
        <p:blipFill>
          <a:blip r:embed="rId3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  <p:pic>
        <p:nvPicPr>
          <p:cNvPr id="267" name="Bildobjekt 37" descr="1030323_e82b8df6.jpg"/>
          <p:cNvPicPr/>
          <p:nvPr/>
        </p:nvPicPr>
        <p:blipFill>
          <a:blip r:embed="rId4"/>
          <a:srcRect l="10199" t="7875" r="9538" b="3233"/>
          <a:stretch/>
        </p:blipFill>
        <p:spPr>
          <a:xfrm>
            <a:off x="5002200" y="1776240"/>
            <a:ext cx="3013200" cy="44499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8" name="Rektangel 38"/>
          <p:cNvSpPr/>
          <p:nvPr/>
        </p:nvSpPr>
        <p:spPr>
          <a:xfrm>
            <a:off x="5514840" y="6383160"/>
            <a:ext cx="2500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Phil Catter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Rektangel med rundade hörn 16" descr=""/>
          <p:cNvPicPr/>
          <p:nvPr/>
        </p:nvPicPr>
        <p:blipFill>
          <a:blip r:embed="rId5"/>
          <a:stretch/>
        </p:blipFill>
        <p:spPr>
          <a:xfrm>
            <a:off x="1390680" y="3529080"/>
            <a:ext cx="3346560" cy="1896840"/>
          </a:xfrm>
          <a:prstGeom prst="rect">
            <a:avLst/>
          </a:prstGeom>
          <a:ln w="0">
            <a:noFill/>
          </a:ln>
        </p:spPr>
      </p:pic>
      <p:sp>
        <p:nvSpPr>
          <p:cNvPr id="270" name="Platshållare för innehåll 2"/>
          <p:cNvSpPr/>
          <p:nvPr/>
        </p:nvSpPr>
        <p:spPr>
          <a:xfrm>
            <a:off x="1601640" y="2508120"/>
            <a:ext cx="2917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Olika sätt att sö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ruta 19"/>
          <p:cNvSpPr/>
          <p:nvPr/>
        </p:nvSpPr>
        <p:spPr>
          <a:xfrm>
            <a:off x="1743480" y="3808440"/>
            <a:ext cx="26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riv upp källo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ruta 21"/>
          <p:cNvSpPr/>
          <p:nvPr/>
        </p:nvSpPr>
        <p:spPr>
          <a:xfrm>
            <a:off x="2072520" y="4946760"/>
            <a:ext cx="197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 källkri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ktangel med rundade hörn 15" descr=""/>
          <p:cNvPicPr/>
          <p:nvPr/>
        </p:nvPicPr>
        <p:blipFill>
          <a:blip r:embed="rId1"/>
          <a:stretch/>
        </p:blipFill>
        <p:spPr>
          <a:xfrm>
            <a:off x="4621320" y="3511440"/>
            <a:ext cx="2869920" cy="1425600"/>
          </a:xfrm>
          <a:prstGeom prst="rect">
            <a:avLst/>
          </a:prstGeom>
          <a:ln w="0">
            <a:noFill/>
          </a:ln>
        </p:spPr>
      </p:pic>
      <p:pic>
        <p:nvPicPr>
          <p:cNvPr id="274" name="Rektangel med rundade hörn 7" descr=""/>
          <p:cNvPicPr/>
          <p:nvPr/>
        </p:nvPicPr>
        <p:blipFill>
          <a:blip r:embed="rId2"/>
          <a:stretch/>
        </p:blipFill>
        <p:spPr>
          <a:xfrm>
            <a:off x="4621320" y="2511360"/>
            <a:ext cx="2017440" cy="1311480"/>
          </a:xfrm>
          <a:prstGeom prst="rect">
            <a:avLst/>
          </a:prstGeom>
          <a:ln w="0">
            <a:noFill/>
          </a:ln>
        </p:spPr>
      </p:pic>
      <p:pic>
        <p:nvPicPr>
          <p:cNvPr id="275" name="Rektangel med rundade hörn 10" descr=""/>
          <p:cNvPicPr/>
          <p:nvPr/>
        </p:nvPicPr>
        <p:blipFill>
          <a:blip r:embed="rId3"/>
          <a:stretch/>
        </p:blipFill>
        <p:spPr>
          <a:xfrm>
            <a:off x="4621320" y="4511520"/>
            <a:ext cx="3352680" cy="1541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4932000" y="2533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nteck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782240" y="4700520"/>
            <a:ext cx="3029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Gör en ny tankek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ruta 1"/>
          <p:cNvSpPr/>
          <p:nvPr/>
        </p:nvSpPr>
        <p:spPr>
          <a:xfrm>
            <a:off x="4862520" y="36147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lå upp nya 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2" descr=""/>
          <p:cNvPicPr/>
          <p:nvPr/>
        </p:nvPicPr>
        <p:blipFill>
          <a:blip r:embed="rId4"/>
          <a:stretch/>
        </p:blipFill>
        <p:spPr>
          <a:xfrm>
            <a:off x="1239840" y="1886040"/>
            <a:ext cx="3024360" cy="3938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4dcfa"/>
            </a:outerShdw>
          </a:effectLst>
        </p:spPr>
      </p:pic>
      <p:pic>
        <p:nvPicPr>
          <p:cNvPr id="280" name="Rubrik 1" descr=""/>
          <p:cNvPicPr/>
          <p:nvPr/>
        </p:nvPicPr>
        <p:blipFill>
          <a:blip r:embed="rId5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Alternativ process 12" descr=""/>
          <p:cNvPicPr/>
          <p:nvPr/>
        </p:nvPicPr>
        <p:blipFill>
          <a:blip r:embed="rId1"/>
          <a:stretch/>
        </p:blipFill>
        <p:spPr>
          <a:xfrm>
            <a:off x="4363920" y="3121200"/>
            <a:ext cx="3872160" cy="15541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4552920" y="3300480"/>
            <a:ext cx="361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änk på upphovsrä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Alternativ process 13" descr=""/>
          <p:cNvPicPr/>
          <p:nvPr/>
        </p:nvPicPr>
        <p:blipFill>
          <a:blip r:embed="rId2"/>
          <a:stretch/>
        </p:blipFill>
        <p:spPr>
          <a:xfrm>
            <a:off x="4363920" y="3992400"/>
            <a:ext cx="3713400" cy="16034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7"/>
          <p:cNvSpPr/>
          <p:nvPr/>
        </p:nvSpPr>
        <p:spPr>
          <a:xfrm>
            <a:off x="4673880" y="4227480"/>
            <a:ext cx="3123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riv källhänvisnin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Rektangel med rundade hörn 17" descr=""/>
          <p:cNvPicPr/>
          <p:nvPr/>
        </p:nvPicPr>
        <p:blipFill>
          <a:blip r:embed="rId3"/>
          <a:stretch/>
        </p:blipFill>
        <p:spPr>
          <a:xfrm>
            <a:off x="4352760" y="4900680"/>
            <a:ext cx="1925640" cy="1396800"/>
          </a:xfrm>
          <a:prstGeom prst="rect">
            <a:avLst/>
          </a:prstGeom>
          <a:ln w="0">
            <a:noFill/>
          </a:ln>
        </p:spPr>
      </p:pic>
      <p:sp>
        <p:nvSpPr>
          <p:cNvPr id="286" name="textruta 18"/>
          <p:cNvSpPr/>
          <p:nvPr/>
        </p:nvSpPr>
        <p:spPr>
          <a:xfrm>
            <a:off x="4708440" y="5021280"/>
            <a:ext cx="1300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Rektangel med rundade hörn 21" descr=""/>
          <p:cNvPicPr/>
          <p:nvPr/>
        </p:nvPicPr>
        <p:blipFill>
          <a:blip r:embed="rId4"/>
          <a:stretch/>
        </p:blipFill>
        <p:spPr>
          <a:xfrm>
            <a:off x="4359240" y="2298600"/>
            <a:ext cx="2206800" cy="1455840"/>
          </a:xfrm>
          <a:prstGeom prst="rect">
            <a:avLst/>
          </a:prstGeom>
          <a:ln w="0">
            <a:noFill/>
          </a:ln>
        </p:spPr>
      </p:pic>
      <p:sp>
        <p:nvSpPr>
          <p:cNvPr id="288" name="Platshållare för innehåll 2"/>
          <p:cNvSpPr/>
          <p:nvPr/>
        </p:nvSpPr>
        <p:spPr>
          <a:xfrm>
            <a:off x="4495680" y="2379600"/>
            <a:ext cx="1930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Egna 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C:\Users\rebecca.borg\AppData\Local\Microsoft\Windows\Temporary Internet Files\Content.IE5\B5K3C9DC\MP900316887[1].jpg"/>
          <p:cNvPicPr/>
          <p:nvPr/>
        </p:nvPicPr>
        <p:blipFill>
          <a:blip r:embed="rId5"/>
          <a:stretch/>
        </p:blipFill>
        <p:spPr>
          <a:xfrm>
            <a:off x="1143000" y="1712880"/>
            <a:ext cx="2879640" cy="43513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90" name="Rubrik 1" descr=""/>
          <p:cNvPicPr/>
          <p:nvPr/>
        </p:nvPicPr>
        <p:blipFill>
          <a:blip r:embed="rId6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Höger 21" descr=""/>
          <p:cNvPicPr/>
          <p:nvPr/>
        </p:nvPicPr>
        <p:blipFill>
          <a:blip r:embed="rId1"/>
          <a:stretch/>
        </p:blipFill>
        <p:spPr>
          <a:xfrm>
            <a:off x="530280" y="3876840"/>
            <a:ext cx="3071880" cy="2852640"/>
          </a:xfrm>
          <a:prstGeom prst="rect">
            <a:avLst/>
          </a:prstGeom>
          <a:ln w="0">
            <a:noFill/>
          </a:ln>
        </p:spPr>
      </p:pic>
      <p:sp>
        <p:nvSpPr>
          <p:cNvPr id="292" name="textruta 18"/>
          <p:cNvSpPr/>
          <p:nvPr/>
        </p:nvSpPr>
        <p:spPr>
          <a:xfrm>
            <a:off x="784080" y="4411800"/>
            <a:ext cx="2297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etar du bil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Höger 19" descr=""/>
          <p:cNvPicPr/>
          <p:nvPr/>
        </p:nvPicPr>
        <p:blipFill>
          <a:blip r:embed="rId2"/>
          <a:stretch/>
        </p:blipFill>
        <p:spPr>
          <a:xfrm>
            <a:off x="512640" y="1920960"/>
            <a:ext cx="3071880" cy="2859120"/>
          </a:xfrm>
          <a:prstGeom prst="rect">
            <a:avLst/>
          </a:prstGeom>
          <a:ln w="0">
            <a:noFill/>
          </a:ln>
        </p:spPr>
      </p:pic>
      <p:sp>
        <p:nvSpPr>
          <p:cNvPr id="294" name="textruta 17"/>
          <p:cNvSpPr/>
          <p:nvPr/>
        </p:nvSpPr>
        <p:spPr>
          <a:xfrm>
            <a:off x="754200" y="2448000"/>
            <a:ext cx="2670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Har du glöm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Rektangel med rundade hörn 15" descr=""/>
          <p:cNvPicPr/>
          <p:nvPr/>
        </p:nvPicPr>
        <p:blipFill>
          <a:blip r:embed="rId3"/>
          <a:stretch/>
        </p:blipFill>
        <p:spPr>
          <a:xfrm>
            <a:off x="4011480" y="2066760"/>
            <a:ext cx="4638960" cy="2273400"/>
          </a:xfrm>
          <a:prstGeom prst="rect">
            <a:avLst/>
          </a:prstGeom>
          <a:ln w="0">
            <a:noFill/>
          </a:ln>
        </p:spPr>
      </p:pic>
      <p:pic>
        <p:nvPicPr>
          <p:cNvPr id="296" name="Rektangel med rundade hörn 14" descr=""/>
          <p:cNvPicPr/>
          <p:nvPr/>
        </p:nvPicPr>
        <p:blipFill>
          <a:blip r:embed="rId4"/>
          <a:stretch/>
        </p:blipFill>
        <p:spPr>
          <a:xfrm>
            <a:off x="3981600" y="3359160"/>
            <a:ext cx="4711680" cy="4626000"/>
          </a:xfrm>
          <a:prstGeom prst="rect">
            <a:avLst/>
          </a:prstGeom>
          <a:ln w="0">
            <a:noFill/>
          </a:ln>
        </p:spPr>
      </p:pic>
      <p:pic>
        <p:nvPicPr>
          <p:cNvPr id="297" name="Rubrik 1" descr=""/>
          <p:cNvPicPr/>
          <p:nvPr/>
        </p:nvPicPr>
        <p:blipFill>
          <a:blip r:embed="rId5"/>
          <a:stretch/>
        </p:blipFill>
        <p:spPr>
          <a:xfrm>
            <a:off x="6284880" y="6022800"/>
            <a:ext cx="2736720" cy="835200"/>
          </a:xfrm>
          <a:prstGeom prst="rect">
            <a:avLst/>
          </a:prstGeom>
          <a:ln w="0">
            <a:noFill/>
          </a:ln>
        </p:spPr>
      </p:pic>
      <p:sp>
        <p:nvSpPr>
          <p:cNvPr id="298" name="Rektangel 6"/>
          <p:cNvSpPr/>
          <p:nvPr/>
        </p:nvSpPr>
        <p:spPr>
          <a:xfrm>
            <a:off x="5499000" y="3510000"/>
            <a:ext cx="2654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12745"/>
                </a:solidFill>
                <a:latin typeface="Arial"/>
              </a:rPr>
              <a:t>Multimediabyrå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ruta 10"/>
          <p:cNvSpPr/>
          <p:nvPr/>
        </p:nvSpPr>
        <p:spPr>
          <a:xfrm>
            <a:off x="4505040" y="5051520"/>
            <a:ext cx="30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Wikimedia Co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ruta 11"/>
          <p:cNvSpPr/>
          <p:nvPr/>
        </p:nvSpPr>
        <p:spPr>
          <a:xfrm>
            <a:off x="6347520" y="4513320"/>
            <a:ext cx="1890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Fotofinn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ruta 12"/>
          <p:cNvSpPr/>
          <p:nvPr/>
        </p:nvSpPr>
        <p:spPr>
          <a:xfrm>
            <a:off x="4499280" y="4024440"/>
            <a:ext cx="2108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ics4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ruta 13"/>
          <p:cNvSpPr/>
          <p:nvPr/>
        </p:nvSpPr>
        <p:spPr>
          <a:xfrm>
            <a:off x="5441040" y="2440080"/>
            <a:ext cx="1735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Kolla käl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Rubrik 1" descr=""/>
          <p:cNvPicPr/>
          <p:nvPr/>
        </p:nvPicPr>
        <p:blipFill>
          <a:blip r:embed="rId6"/>
          <a:stretch/>
        </p:blipFill>
        <p:spPr>
          <a:xfrm>
            <a:off x="0" y="249120"/>
            <a:ext cx="9144000" cy="1317600"/>
          </a:xfrm>
          <a:prstGeom prst="rect">
            <a:avLst/>
          </a:prstGeom>
          <a:ln w="0">
            <a:noFill/>
          </a:ln>
        </p:spPr>
      </p:pic>
      <p:sp>
        <p:nvSpPr>
          <p:cNvPr id="304" name="Rektangel 2"/>
          <p:cNvSpPr/>
          <p:nvPr/>
        </p:nvSpPr>
        <p:spPr>
          <a:xfrm>
            <a:off x="111240" y="6485040"/>
            <a:ext cx="2739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2f2b20"/>
                </a:solidFill>
                <a:latin typeface="Cambria"/>
                <a:ea typeface="Arial"/>
              </a:rPr>
              <a:t>Av: Rebecca Borg, Bokelundskolan, Växj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9:25:12Z</dcterms:created>
  <dc:creator>Rebecca Borg</dc:creator>
  <dc:description/>
  <dc:language>en-US</dc:language>
  <cp:lastModifiedBy>Borg Rebecca</cp:lastModifiedBy>
  <dcterms:modified xsi:type="dcterms:W3CDTF">2011-05-30T07:12:08Z</dcterms:modified>
  <cp:revision>144</cp:revision>
  <dc:subject/>
  <dc:title>Att arbeta med fakta</dc:title>
</cp:coreProperties>
</file>